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7640" y="1252440"/>
            <a:ext cx="825876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280-     1100  DPA6          CPA01CA6103348                   L       000000     2,116.64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 8.24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58.3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96.99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80-                                                                             2,280.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80-                                                                             2,280.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396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4,038-                                                                            81,563.56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080" y="6464160"/>
            <a:ext cx="452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                                                                                                              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-104760"/>
          <a:ext cx="9144000" cy="69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476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44720" y="6477120"/>
            <a:ext cx="459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                                                                                                              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-104760"/>
          <a:ext cx="9144000" cy="69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476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44720" y="6477120"/>
            <a:ext cx="459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                                                                                                              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44720" y="6477120"/>
            <a:ext cx="459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                                                                                                              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560      1100  DPA6          CPA01CA6103364                           300018     3,987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 14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278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14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560                                                                              4,426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560                                                                              4,426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960" y="5519880"/>
            <a:ext cx="825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9,468                                                                              160,61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080" y="6464160"/>
            <a:ext cx="452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                                                                                                               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392      1100  DPA6          CPA01CA6103364                   L       000000     2,791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  9.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 5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102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392                                                                              2,95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392                                                                              2,95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960" y="5519880"/>
            <a:ext cx="803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3,627                                                                           112,428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20" y="6464160"/>
            <a:ext cx="4555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                                                                                                                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44720" y="6477120"/>
            <a:ext cx="459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                                                                                                             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44720" y="6477120"/>
            <a:ext cx="459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                                                                                                             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71280"/>
          <a:ext cx="8915400" cy="67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"/>
                    <a:ext cx="8915400" cy="67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44720" y="6477120"/>
            <a:ext cx="459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                                                                                                              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-104760"/>
          <a:ext cx="9144000" cy="69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476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44720" y="6477120"/>
            <a:ext cx="459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                                                                                                              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891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44720" y="6477120"/>
            <a:ext cx="459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                                                                                                             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-104760"/>
          <a:ext cx="9144000" cy="69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476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44720" y="6477120"/>
            <a:ext cx="459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                                                                                                              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10:41:18Z</dcterms:created>
  <dc:creator>Soldier Support Institute</dc:creator>
  <dc:description/>
  <dc:language>en-US</dc:language>
  <cp:lastModifiedBy>Administrator</cp:lastModifiedBy>
  <cp:lastPrinted>2001-09-24T14:50:22Z</cp:lastPrinted>
  <dcterms:modified xsi:type="dcterms:W3CDTF">2004-10-06T14:17:14Z</dcterms:modified>
  <cp:revision>19</cp:revision>
  <dc:subject/>
  <dc:title>STARCIPS INTERFACE LISTING</dc:title>
</cp:coreProperties>
</file>